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9269-4196-473E-B359-EF49A3856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D63D-98A5-4693-B6DE-E63E9281C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28AB-3750-4FEF-BD40-F2DAD2595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EFAA-690D-4EB4-8A13-9E854F486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02C5-EF6D-4F93-BFED-D1969E6A6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6C4B-72D1-44A1-A345-BDF0BFEC0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A9C6-3863-4DF5-BE17-FB87B3C40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FA13-B248-464F-B8D6-F820A029A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6E66-F1BB-4795-A6AB-E0FCA2E8C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3578-0C6F-4122-8A3D-D49A45B20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CCDD-A0B4-4215-8FCE-80D27D03A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BB51-0DFC-4EED-B749-E829F9311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C55D-C725-42D3-9F01-330072102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135D-5688-4A99-A9D5-CCE1790E4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8DAD-294B-49E3-8DDF-F9DEA239D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277A-17A1-4E72-AE7D-3DE998214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632C-6992-457C-B0BF-B62A83822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73CA-EBC1-4E35-90B2-E7F1AD057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4A6D-180D-41BA-B4F0-29F1A17C8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2F5B-6C01-45D1-B773-DDADED4A4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B78B-CEC1-4BCD-9E62-DE2A0814C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0C7F-095F-418C-9B95-660037AE7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0C20-D14F-462D-BDEE-E2F31D870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74B-5349-4C31-AE47-21462CC4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AFE3-307F-4C74-BC68-F399165B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69D-CC96-474B-A494-93AC7ACF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DB1-2DE8-47B1-B0F6-824ADD7E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B1F-36B4-4E2D-A007-F771EA2C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F2D-54BA-4B2A-88F0-051AD009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8CD-E659-416D-9E0F-3DF68119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1C3-B9A4-49D6-8CD2-9367B719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04F-A653-4137-BDB6-1C26493A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A8F5-8121-4A9D-A8E3-07418341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8CCD-A503-4B5A-946B-52653616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F79-38C1-4BC7-A663-7FBF8C29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1FB6-FB85-4A8A-8019-FD32BAB00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3.xml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3.xml"/><Relationship Id="rId23" Type="http://schemas.openxmlformats.org/officeDocument/2006/relationships/slide" Target="slide13.xml"/><Relationship Id="rId24" Type="http://schemas.openxmlformats.org/officeDocument/2006/relationships/slide" Target="slide9.xml"/><Relationship Id="rId25" Type="http://schemas.openxmlformats.org/officeDocument/2006/relationships/slide" Target="slide9.xml"/><Relationship Id="rId26" Type="http://schemas.openxmlformats.org/officeDocument/2006/relationships/slide" Target="slide17.xml"/><Relationship Id="rId27" Type="http://schemas.openxmlformats.org/officeDocument/2006/relationships/slide" Target="slide17.xml"/><Relationship Id="rId28" Type="http://schemas.openxmlformats.org/officeDocument/2006/relationships/slide" Target="slide8.xml"/><Relationship Id="rId29" Type="http://schemas.openxmlformats.org/officeDocument/2006/relationships/slide" Target="slide7.xml"/><Relationship Id="rId30" Type="http://schemas.openxmlformats.org/officeDocument/2006/relationships/slide" Target="slide6.xml"/><Relationship Id="rId31" Type="http://schemas.openxmlformats.org/officeDocument/2006/relationships/slide" Target="slide6.xml"/><Relationship Id="rId32" Type="http://schemas.openxmlformats.org/officeDocument/2006/relationships/slide" Target="slide19.xml"/><Relationship Id="rId33" Type="http://schemas.openxmlformats.org/officeDocument/2006/relationships/slide" Target="slide19.xml"/><Relationship Id="rId34" Type="http://schemas.openxmlformats.org/officeDocument/2006/relationships/slide" Target="slide20.xml"/><Relationship Id="rId35" Type="http://schemas.openxmlformats.org/officeDocument/2006/relationships/slide" Target="slide20.xml"/><Relationship Id="rId36" Type="http://schemas.openxmlformats.org/officeDocument/2006/relationships/slide" Target="slide21.xml"/><Relationship Id="rId37" Type="http://schemas.openxmlformats.org/officeDocument/2006/relationships/slide" Target="slide21.xml"/><Relationship Id="rId38" Type="http://schemas.openxmlformats.org/officeDocument/2006/relationships/slide" Target="slide22.xml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yden E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countries are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’s smallest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ych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609480" y="1219320"/>
            <a:ext cx="80773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imal with the longest n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a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ack, yellow, green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e, blue and 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s of South African F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rgest desert in Afr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hara De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914400" y="1143000"/>
            <a:ext cx="723888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thernmost country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ni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rgest land mammal on Ear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ntry inside South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ot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ighest mountain in Afr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nt Kilimanja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st populated country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304920" y="152280"/>
            <a:ext cx="16002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rican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2362320" y="152280"/>
            <a:ext cx="175248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rican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4876920" y="152280"/>
            <a:ext cx="16002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7010280" y="152280"/>
            <a:ext cx="167652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rican Grab 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argest land an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ppopota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toria, Bloemfonte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Cape Town.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Capitals of 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n country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penguin colo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914400" y="1219320"/>
            <a:ext cx="78487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outhernmost country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ack with white strip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e with black strip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ickname of South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nbow 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rgest river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rica’s largest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t that can run up to 80m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et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uth Africa’s largest ex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d and Diam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Owner</cp:lastModifiedBy>
  <cp:lastPrinted>2001-01-31T16:21:13Z</cp:lastPrinted>
  <dcterms:modified xsi:type="dcterms:W3CDTF">2010-10-22T02:33:53Z</dcterms:modified>
  <cp:revision>67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