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796A-D8D9-4FEC-A4AD-D4C1BC983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18B5-A303-4603-829C-3988B0C10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3EDB-BB79-41E4-AE60-FFEB3031E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87F5-1CFD-4FE7-BA24-FEC801F9C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4BFC-106D-4D23-8845-4182CC1EA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9690-68D6-42DF-B87B-7698E513C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1724-1439-4954-B047-D96F4AD8F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334D-F478-48DE-B429-E98532E0B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BE4E-E460-4C58-81C6-549757B50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4F22-4E84-4C7C-9AE6-CF46C565F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52F3-9BB6-490C-8383-54756A2F1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349A-7DE5-47ED-81F9-F7443A311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161A-2320-4E68-870C-5E05862F6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8EFD-6622-438F-BCE9-444CE3C17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1205-4D7A-4450-800C-E0ED67989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FFFE-9954-483A-8BDC-28B114F6D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5BC6-ED77-4843-87D8-5161710FE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496D-52C8-4E9A-B897-E03D21584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EA8A-1C16-4247-AE71-388FD39E5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6E52-AE6D-4B49-BB55-BC66514E6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DB0E-4CCB-4835-85F8-E21429EC6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34CC-B307-495E-B7FE-E2104C7D7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9E16-94F4-410B-AE89-82089EB13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2C5-6B2E-4406-8A8A-E736AD71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3B7-6D3B-4C25-AA07-D1FD308A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775-AA37-4CD0-9109-397DC083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A47-8C52-453D-8C06-2CC7FFB9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294-CA7A-4883-BD2A-86B5AD1E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DAB-DCCE-4389-B9A1-80262678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955-84C4-48F6-BA4D-7AA66E0A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7D1-2F0D-4E62-9C96-BF7684AF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39A-9005-43FB-9680-C2AC0260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E7D-1E6A-4389-8DEF-E5FF1229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783-0DC6-42C0-9531-2B5BC653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898-9FF8-4DC9-8332-D9F8F115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4D85-C2B1-47FB-88C5-91A8E9628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9.xml"/><Relationship Id="rId25" Type="http://schemas.openxmlformats.org/officeDocument/2006/relationships/slide" Target="slide9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8.xml"/><Relationship Id="rId29" Type="http://schemas.openxmlformats.org/officeDocument/2006/relationships/slide" Target="slide7.xml"/><Relationship Id="rId30" Type="http://schemas.openxmlformats.org/officeDocument/2006/relationships/slide" Target="slide6.xml"/><Relationship Id="rId31" Type="http://schemas.openxmlformats.org/officeDocument/2006/relationships/slide" Target="slide6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20.xml"/><Relationship Id="rId35" Type="http://schemas.openxmlformats.org/officeDocument/2006/relationships/slide" Target="slide20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2.xml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yden E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countries are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’s smallest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ych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609480" y="1219320"/>
            <a:ext cx="80773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 with the longest n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a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ack, yellow, green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, blue and 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s of South African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st desert in Af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hara 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914400" y="1143000"/>
            <a:ext cx="723888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ernmost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ni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st land mammal on Ear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ntry inside South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ot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ighest mountain in Af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 Kilimanja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st populated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304920" y="152280"/>
            <a:ext cx="16002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362320" y="152280"/>
            <a:ext cx="175248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876920" y="152280"/>
            <a:ext cx="16002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7010280" y="152280"/>
            <a:ext cx="167652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Grab 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argest land an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ppopot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toria, Bloemfonte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Cape Town.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Capitals of 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n country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enguin colo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14400" y="1219320"/>
            <a:ext cx="78487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outhernmost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ack with white stri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 with black stri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ckname of South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nbow 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rgest river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rica’s largest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t that can run up to 80m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et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uth Africa’s largest ex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 and Diam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Owner</cp:lastModifiedBy>
  <cp:lastPrinted>2001-01-31T16:21:13Z</cp:lastPrinted>
  <dcterms:modified xsi:type="dcterms:W3CDTF">2010-10-22T02:33:53Z</dcterms:modified>
  <cp:revision>6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