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638-556F-4D4D-AF77-1B0681E7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DEF-0C22-4CF1-B4F6-34A0C8C2D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A492-1B2B-4E2C-88B2-B6BE644F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4611-95C9-4082-A082-7031B170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B85E-DCD2-4A07-A082-0DF81E4E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F7FB-E40D-450F-A667-2C2FA1E3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70D3-9A94-4182-9CBF-58BFCB69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9809-5CD8-4728-B8BA-8A2FC4D77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4C3-186F-4970-AA64-AE2179E3F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B49-ADF8-4634-8624-C0B3A2D2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5C29-26CB-42E7-8FC6-6C72F56AA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389D-5404-424F-8D0C-FD75944E0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FD03-2023-4CA0-9374-9D4E1F9F0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2707-FB60-4A7C-86F0-DB27A5EC2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2D08-011C-4C57-B897-61BBB774E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118E-B3A0-4794-A9FD-DEDB7435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F21-C82A-4BD0-BC7D-9EA83D7C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404-459F-4DAD-B464-3C03D6B2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B0A-E540-48E6-9FE8-1EAF00CF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214C-9599-4FF4-8346-2D618245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0B7-E7A3-4E4F-B521-4688E7CDF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96F-C0AF-4257-98EE-64716DEE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B3C6-F471-4F2E-86B1-768EA8B3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BA9-4034-46C8-AEF8-1012E8D2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04E-7B7B-4E8C-990E-DF3B43AC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F31-57EA-4742-9EC1-4B28E925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681-29C1-43E8-ADED-68E7C1A9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245-FB9D-40FD-84F5-D5B47A2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199-38F0-44FD-A722-A5041538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795-7970-41C9-A552-CEDE3CA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2FC-6245-4275-AEBF-B24858BA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D26-A01C-42E1-8727-8C03312E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0BD-B647-47E6-A60A-ABEA2DF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787-BD39-468B-A98E-0E73968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2D7-ECE7-46BE-B232-12A3CB2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A0F-637A-4105-A950-DA4E34967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den 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countries are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’s small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ych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219320"/>
            <a:ext cx="80773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with the longest n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, yellow,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, blue and 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s of South African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desert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914400" y="1143000"/>
            <a:ext cx="723888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rgest land mammal on Ear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ntry inside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ot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ighest mountain in Afr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Kilimanj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st populated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304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152280"/>
            <a:ext cx="175248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152280"/>
            <a:ext cx="16002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152280"/>
            <a:ext cx="16765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rican Grab 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rgest land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popot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toria, Bloemfonte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Cape Town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Capitals of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rican country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nguin col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14400" y="1219320"/>
            <a:ext cx="78487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outhernmost country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ack with white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te with black stri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kname of South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nbow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rgest river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rica’s largest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t that can run up to 80m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et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uth Africa’s largest ex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 and Diam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Owner</cp:lastModifiedBy>
  <cp:lastPrinted>2001-01-31T16:21:13Z</cp:lastPrinted>
  <dcterms:modified xsi:type="dcterms:W3CDTF">2010-10-22T02:33:53Z</dcterms:modified>
  <cp:revision>6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