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35E4B-3A8C-41F9-B03B-5DA8A5344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6F122-7F96-4B07-A45E-4BE3A5FC6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724E5-28DA-419E-9C20-A9B06EC48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F54AA-8741-4EFD-B328-915A79020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F0E4E5-E2A4-4F1E-A156-76E639816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1875D-AE9E-4E21-91B8-437209C9A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B62D6-3821-4F56-A637-C4DC79BB5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1C6B0-618C-40BB-B194-AB6648308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E2408-A7E1-4953-A844-1F278EAF5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7CF2B-3B7B-4ECA-8304-5BA209338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BE288-07B6-46B7-B826-3D71AAC3A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988F1-057C-49E6-B657-9353A467F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1B86B-3E4A-4E0D-8BD8-D6BFF8B35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CACC0-F00B-4536-8917-B35D27AB9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48899-C192-41A3-B70B-E372A57A8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260132-2DC5-486C-AB86-F88327105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5503D3-FE56-4E26-9505-2DDD23396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A5806-CD29-4A98-9B3B-7AF1C723F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4D6CD-2516-4E91-931B-5616A4264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30851-AD12-4FC2-A2A1-ED3F4B67D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AC621-76C1-4480-83A6-659E451FA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88E5A-33BC-4CFD-BF55-A2B75F5CD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59CD9-212C-47A3-B0DC-EE727B7DA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EF4BB-F1DD-4054-B8E8-F7352F5FF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7BE6-C17E-44AD-8C80-CAFF2439F5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1BE5-18EB-4476-87C7-0DF23C620037}"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52720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Pooh"/>
              </a:rPr>
              <a:t>Missionaries</a:t>
            </a:r>
            <a:endParaRPr b="0" lang="en-US" sz="4800" spc="-1" strike="noStrike">
              <a:solidFill>
                <a:srgbClr val="ffffff"/>
              </a:solidFill>
              <a:latin typeface="Tahoma"/>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By Christine Stephanie</a:t>
            </a:r>
            <a:endParaRPr b="0" lang="en-US" sz="2800" spc="-1" strike="noStrike">
              <a:solidFill>
                <a:srgbClr val="f8f8f8"/>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African Book Report</a:t>
            </a:r>
            <a:endParaRPr b="0" lang="en-US" sz="2800" spc="-1" strike="noStrike">
              <a:solidFill>
                <a:srgbClr val="f8f8f8"/>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12/13</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What is a Missionary?</a:t>
            </a:r>
            <a:endParaRPr b="0" lang="en-US" sz="3600" spc="-1" strike="noStrike">
              <a:solidFill>
                <a:srgbClr val="ffffff"/>
              </a:solidFill>
              <a:latin typeface="Tahoma"/>
            </a:endParaRPr>
          </a:p>
        </p:txBody>
      </p:sp>
      <p:sp>
        <p:nvSpPr>
          <p:cNvPr id="112"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nSpc>
                <a:spcPct val="100000"/>
              </a:lnSpc>
              <a:spcBef>
                <a:spcPts val="799"/>
              </a:spcBef>
              <a:buClr>
                <a:srgbClr val="6699ff"/>
              </a:buClr>
              <a:buFont typeface="Poo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What I think: a person(s) who travel to a foreign  country and share their religion.</a:t>
            </a:r>
            <a:endParaRPr b="0" lang="en-US" sz="3200" spc="-1" strike="noStrike">
              <a:solidFill>
                <a:srgbClr val="f8f8f8"/>
              </a:solidFill>
              <a:latin typeface="Tahoma"/>
            </a:endParaRPr>
          </a:p>
          <a:p>
            <a:pPr marL="343080" indent="-343080">
              <a:lnSpc>
                <a:spcPct val="100000"/>
              </a:lnSpc>
              <a:spcBef>
                <a:spcPts val="799"/>
              </a:spcBef>
              <a:buClr>
                <a:srgbClr val="6699ff"/>
              </a:buClr>
              <a:buFont typeface="Poo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Dictionary Definition: a person sent by a church into an area to carry on evangelism or other activities, as educational or hospital work.</a:t>
            </a:r>
            <a:r>
              <a:rPr b="0" lang="en-US" sz="3200" spc="-1" strike="noStrike">
                <a:solidFill>
                  <a:srgbClr val="f8f8f8"/>
                </a:solidFill>
                <a:latin typeface="Tahoma"/>
              </a:rPr>
              <a:t>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Relation to the Book</a:t>
            </a:r>
            <a:endParaRPr b="0" lang="en-US" sz="3600" spc="-1" strike="noStrike">
              <a:solidFill>
                <a:srgbClr val="ffffff"/>
              </a:solidFill>
              <a:latin typeface="Tahoma"/>
            </a:endParaRPr>
          </a:p>
        </p:txBody>
      </p:sp>
      <p:sp>
        <p:nvSpPr>
          <p:cNvPr id="114"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I read </a:t>
            </a:r>
            <a:r>
              <a:rPr b="0" i="1" lang="en-US" sz="2800" spc="-1" strike="noStrike">
                <a:solidFill>
                  <a:srgbClr val="f8f8f8"/>
                </a:solidFill>
                <a:latin typeface="Pooh"/>
              </a:rPr>
              <a:t>The Color Purple </a:t>
            </a:r>
            <a:r>
              <a:rPr b="0" lang="en-US" sz="2800" spc="-1" strike="noStrike">
                <a:solidFill>
                  <a:srgbClr val="f8f8f8"/>
                </a:solidFill>
                <a:latin typeface="Pooh"/>
              </a:rPr>
              <a:t>by Alice Walker. Nettie, a missionary in Africa lives with the Olinka Tribe. Goes through a frustrating  time such as living so far away from her sister, Celie. Who never receives her letters because of Celie’s crazy husband. Celie finds Nettie’s many letter and it shows Celie a whole new world. Nettie shares what a challenge a missionary is and what its like.</a:t>
            </a:r>
            <a:r>
              <a:rPr b="0" lang="en-US" sz="2800" spc="-1" strike="noStrike">
                <a:solidFill>
                  <a:srgbClr val="f8f8f8"/>
                </a:solidFill>
                <a:latin typeface="Tahoma"/>
              </a:rPr>
              <a:t>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Smuggling Bibles!</a:t>
            </a:r>
            <a:endParaRPr b="0" lang="en-US" sz="3600" spc="-1" strike="noStrike">
              <a:solidFill>
                <a:srgbClr val="ffffff"/>
              </a:solidFill>
              <a:latin typeface="Tahoma"/>
            </a:endParaRPr>
          </a:p>
        </p:txBody>
      </p:sp>
      <p:sp>
        <p:nvSpPr>
          <p:cNvPr id="116"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Smuggling bibles is simply one of the most dangerous jobs a missionary has to do. Some places don’t allow bibles, like China, you could get killed or put in prison if you are caught with a bible!</a:t>
            </a:r>
            <a:r>
              <a:rPr b="0" lang="en-US" sz="3200" spc="-1" strike="noStrike">
                <a:solidFill>
                  <a:srgbClr val="f8f8f8"/>
                </a:solidFill>
                <a:latin typeface="Tahoma"/>
              </a:rPr>
              <a:t>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It’s a dangerous job!</a:t>
            </a:r>
            <a:endParaRPr b="0" lang="en-US" sz="3600" spc="-1" strike="noStrike">
              <a:solidFill>
                <a:srgbClr val="ffffff"/>
              </a:solidFill>
              <a:latin typeface="Tahoma"/>
            </a:endParaRPr>
          </a:p>
        </p:txBody>
      </p:sp>
      <p:sp>
        <p:nvSpPr>
          <p:cNvPr id="118"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Being a missionary can be a very dangerous job. Especially if you go to a communist country. (communist: the government runs everything.) If you get caught being a missionary you could be killed or put in prison.</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22:01:24Z</dcterms:created>
  <dc:creator>954858</dc:creator>
  <dc:description/>
  <dc:language>en-US</dc:language>
  <cp:lastModifiedBy>JSEAQUIS</cp:lastModifiedBy>
  <dcterms:modified xsi:type="dcterms:W3CDTF">2010-10-26T14:09:44Z</dcterms:modified>
  <cp:revision>1</cp:revision>
  <dc:subject/>
  <dc:title>Missionaries</dc:title>
</cp:coreProperties>
</file>