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19E-505F-4C27-999F-FA6E9506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954-66C2-4EB9-928F-D5449F9A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7CA-A905-4274-B3A4-9350F8FD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647-D462-4BD5-9ADE-12DE7D15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356-5AAE-44AE-9BA5-2612F270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888-2696-4B24-9FD2-24A6DA77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B15-8259-4DE6-AF34-B3CA1040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1E2-74E6-4AAC-876B-EFEFB1F6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870-C588-4CF3-B0DB-34B21F3F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CC8-B04F-40D5-8D2F-75A0A32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750-B88F-4390-994F-5AA39F24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931-D73C-4AF9-AE01-6751FC5D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5256-5B82-4CF8-92F6-78E7829C8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Allison 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 Pla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ations that slaves were forced to work on or be brutally punish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 people owned the plan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wner “owned” the slav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ces that they lived in were barely big enough to house every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o work such as: Picked crops, took care of livestock, cleaned houses, prepared food, waited on the family, and protected the plantation while owner was aw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rented out or borrowed to other peop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uys would work in the field and if you were trusted you could work in the masters house and babysitting his childr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their working condi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orking conditions were very hard and toug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orked for little to nothing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y were lucky and treated well they got two new outfits a y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soon as you could walk or carry things you were out wor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hard hours in the blazing sun or r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didn’t do something right the first time you were punished and then told to do it ag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got slav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ere brought overseas in cargo hold of ships and were given food and water once or twice a day if they were lucky. They rarely were able to come above unless to there destin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getting to the place where people “needed” them they were auctioned off for mone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sold at anytime and could be taken away from there families without ques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35:50Z</dcterms:created>
  <dc:creator>Holly Rose</dc:creator>
  <dc:description/>
  <dc:language>en-US</dc:language>
  <cp:lastModifiedBy>Owner</cp:lastModifiedBy>
  <dcterms:modified xsi:type="dcterms:W3CDTF">2010-10-22T00:10:06Z</dcterms:modified>
  <cp:revision>5</cp:revision>
  <dc:subject/>
  <dc:title>Slaves</dc:title>
</cp:coreProperties>
</file>