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643-BB37-462E-AB90-5BB75D9C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A74-3A53-4867-B7B7-7AA1E364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221-2FEF-48F3-9039-42F564D2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9E2-BCF1-4B07-900F-DAEC66BC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90D-79F0-4E2D-A778-9CA337B8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921-1951-4699-87C6-EEF6CD7A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D03-0E65-4427-BF34-A9F09CCF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4B7-0B94-4AD7-91C8-6091514B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321-D6CC-45BB-9C1B-DBDEA2BD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7F0-B6DD-4F52-A47D-7C0DDF85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996-1339-4748-8842-9BE36FB8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302-3898-40C9-AE28-8088460A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DB68-3970-4F95-985C-49F082915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Allison 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 Pla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tations that slaves were forced to work on or be brutally punish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ch people owned the plan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wner “owned” the slav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ces that they lived in were barely big enough to house every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y used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o work such as: Picked crops, took care of livestock, cleaned houses, prepared food, waited on the family, and protected the plantation while owner was aw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ould be rented out or borrowed to other peop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uys would work in the field and if you were trusted you could work in the masters house and babysitting his childr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as their working condi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orking conditions were very hard and tough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worked for little to nothing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y were lucky and treated well they got two new outfits a y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soon as you could walk or carry things you were out wor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 hard hours in the blazing sun or r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you didn’t do something right the first time you were punished and then told to do it ag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eople got slav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were brought overseas in cargo hold of ships and were given food and water once or twice a day if they were lucky. They rarely were able to come above unless to there destin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getting to the place where people “needed” them they were auctioned off for mone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ould be sold at anytime and could be taken away from there families without ques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0:35:50Z</dcterms:created>
  <dc:creator>Holly Rose</dc:creator>
  <dc:description/>
  <dc:language>en-US</dc:language>
  <cp:lastModifiedBy>Owner</cp:lastModifiedBy>
  <dcterms:modified xsi:type="dcterms:W3CDTF">2010-10-22T00:10:06Z</dcterms:modified>
  <cp:revision>5</cp:revision>
  <dc:subject/>
  <dc:title>Slaves</dc:title>
</cp:coreProperties>
</file>