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21A-2FF3-4FEA-8045-0453CE0F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308-CD35-43BE-BE64-C2195F9B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341D-E5C9-4D38-AED3-839E5234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DC5-1EB4-4E1A-A010-066A7969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857-E2D4-44C7-B67B-9BFD8903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FCC1-6DB3-4F35-83B7-E202D237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387-45E6-45A6-B1A2-38E1FD6D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DD9-58C1-49C5-961B-54E124F7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EA39-AA9A-469C-9BF8-2AE0945C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098-9AC0-4818-AD49-A3070BC9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FC0E-4764-476F-A525-C6B3749E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BA49-95D6-4EC4-8DD2-49A08B18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5E49-19ED-460D-BDEC-CE5646037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Allison 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ave Pla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tations that slaves were forced to work on or be brutally punish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ch people owned the plant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wner “owned” the slav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ces that they lived in were barely big enough to house every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re they used f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2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do work such as: Picked crops, took care of livestock, cleaned houses, prepared food, waited on the family, and protected the plantation while owner was aw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ould be rented out or borrowed to other peop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uys would work in the field and if you were trusted you could work in the masters house and babysitting his childr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was their working condi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orking conditions were very hard and tough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worked for little to nothing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y were lucky and treated well they got two new outfits a ye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soon as you could walk or carry things you were out wor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 hard hours in the blazing sun or ra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you didn’t do something right the first time you were punished and then told to do it aga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people got slav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were brought overseas in cargo hold of ships and were given food and water once or twice a day if they were lucky. They rarely were able to come above unless to there destin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getting to the place where people “needed” them they were auctioned off for mone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ould be sold at anytime and could be taken away from there families without ques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0:35:50Z</dcterms:created>
  <dc:creator>Holly Rose</dc:creator>
  <dc:description/>
  <dc:language>en-US</dc:language>
  <cp:lastModifiedBy>Owner</cp:lastModifiedBy>
  <dcterms:modified xsi:type="dcterms:W3CDTF">2010-10-22T00:10:06Z</dcterms:modified>
  <cp:revision>5</cp:revision>
  <dc:subject/>
  <dc:title>Slaves</dc:title>
</cp:coreProperties>
</file>